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6C604-0E0D-4A8C-859F-37A831FE6C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30BC3-71C1-44B1-B7F2-9C209FC69A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42C29-2CF1-4973-A838-0BD1D1ADF6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855DB-0383-4327-A68A-BE91AB198F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B2D2D-F72E-40F8-A4DB-5FDD9CA50F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41D69-6B5B-4DF6-A7D7-5B52FC1EC5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43A24-EDF4-4886-B9CB-99620453AF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95624-FB5E-456A-A823-F7A0AA9E40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6933C-E959-4451-9331-FC9AB10DC2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B90D1-1385-4DF2-A753-02EB6B9036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53EB2-A92B-4DF2-BC13-D30A0C212E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8C7C8-7574-47C1-B953-3D406533F0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Global Business Transform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1AFA5-7BB4-48F8-B303-2D44C92BAA87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1155600" y="4070520"/>
            <a:ext cx="2075040" cy="3013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115000"/>
              </a:lnSpc>
              <a:spcBef>
                <a:spcPts val="56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1812960"/>
            <a:ext cx="630072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4 WDI / WBIC Customer Conference </a:t>
            </a:r>
            <a:br>
              <a:rPr sz="28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lobal Business Trans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56080" y="3335400"/>
            <a:ext cx="558792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igrating to WDI 3.2 on Win2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ee Edenfiel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anager e-Commerce System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Hagemeyer North America, Inc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hy we chose WDI 3.2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miliarity – we’ve been using DI since 199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e of migration from DI 2.1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e of future migr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BM Patterns for e-Busi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BM decision to include DI in Websphere fam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for older EDI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DACOMS, ODETTE, UCS, X.12 V2R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for new XML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AGIS BODs, Commerce 1 xCBL, Rosetta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QSeries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hy we chose Windows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-226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certainty about future ERP plat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-28296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/390, AS/400, Unix? Some combination?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-28296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rything now has a Windows 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to extend the life of our S/3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-28296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ayed implementation of replacement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-28296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ed business growth through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ck of AIX expertise and exper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formance seemed adequ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eadth of tools avai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rlier release of new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 entry 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hy we chose Data Transformation maps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BM told us to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sier future mig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tter Websphere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’t have to learn both mapp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tter XML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y to any (almos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esigning data forma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 Hagemeyer Business Message (HB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were going to re-map everything any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liked the mapper bet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hat we thought we were going to do…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205560" indent="-205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message based integration hub architecture based on IBM Patterns for e-Busi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rmalize all documents to HBM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MQSeries for message trans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MQSeries Integrator f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5720" indent="-2570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 rou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5720" indent="-2570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e” data trans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5720" indent="-2570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 archi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WDI for “complex” data trans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MQSeries Workflow f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5720" indent="-2570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-to-end audi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5720" indent="-2570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ng running transaction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ajor design point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19240" indent="-21924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43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t support existing business 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43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t be able to support new business 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exi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43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t be able to easily accommodate changes in the operating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43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t be able to handle the lo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43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ponse time requirements are getting shor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tform independ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43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e Flexibility and Perform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June 2002 we started to build it…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embled the t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aded soft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gan documenting as-is pro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ed HBM forma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ed building the HNA EDI “bolt-on” for the H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 Movex 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5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vex e-Collaborator - XML over MQSe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 all legacy EDI trans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olidate transactions with common trading part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ased implementation by business subsystem – purchasing and A/P fir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The rules change, but the project survives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196560" indent="-196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roject scope chang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GS put on hold – late 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 UNITE – target ERP chang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6560" indent="-196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ased mig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d to support Vallen ERP system temporari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 ERP is CamBar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6560" indent="-196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ided to map Vallen EDI to ADF direct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rt term n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len ADFs are very “EDI-lik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wer Vallen interface changes requi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6560" indent="-196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inue to develop HBM for CamB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6560" indent="-196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i-state and Allied put on h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The rules change again…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ject UNITE cancelled late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mBar put on h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len now longer term ne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sh we had mapped to the HB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andoned WW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ed using new architecture to meet new requirements (XML, CS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d Websphere Application Server (W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S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solution components now built in J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o what did we actually build?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ssage based integration hub using MQSe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Q enabled legacy application interf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MQI used for routing and simple trans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programs used for utility func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sage archi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I parser, search tool, comparison tool, rou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S used for https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QSS used for VAN traf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DI used for complex data trans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hallenges we encountered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CII-EBCDIC conver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cked and zoned decimal fiel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I Segment delimi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rd bloc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message per trans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CR&gt;&lt;LF&gt; separ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F record lengths have to ma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Objectives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 are w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WDI 3.2? Why Windows? Why DT map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id we plan to do 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id we actually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we are now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will it all en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hallenges we encountered (continued)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DI-MQSeries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file set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 character queue name lim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ical to physical filename map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T mapping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ck of loop function (XML large text field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-to-many transactions (outbound 82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-to-one transactions (outbound 85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hallenges we encountered (continued)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DI 3.2 in general and the DT mapper in particular are actually new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ersion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PM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 support evolv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action store support evolv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ces in how trading partners are handled – TP resolution, map rule selection, transaction store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ces from one document type to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ces from the way it works with S/R ma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here are we today?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have migrated all Vallen VAN traffic to MQ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have MQ enabled all Vallen EDI application interfa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have developed DT maps for all Vallen transactions and trading part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are currently migrating Vallen trading partners and maps to W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hen will it end?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-226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len migration to WDI 3.2 complete in 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grate CamBar to WDI 3.2 in 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Web site under construction – to be integrated with all the legacy ER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requirements appear all the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-28296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over the we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105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1/AS2, HTTPs, SMTP, MQSeries, FTPs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-28296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-time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-28296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XML “standard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-28296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ERP in 2007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a process – there is no end in s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ummary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72640" y="14317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 in progres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ules keep chan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uture is still uncerta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rchitecture is flexible enough to handle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is better than exp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agemeijer &amp; Co. was established in the former Dutch East Indies (now Indonesia) in 1900. Today, Hagemeyer N.V. is headquartered in Naarden, Netherlands (near Amsterdam). The company has 22,000+ employees serving more than a million customers in 37 countries worldwid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agemeyer North America, Inc. (HNA), A wholly owned subsidiary of Hagemeyer N.V., is a wholesale distributor focusing on business-to-business markets in electrical, safety, and industrial products and services throughout North America. HNA’s 4900+ associates serve more than 100,000 customers from approximately 500 locations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Hagemeyer%20NA%20-%20COLOR" descr=""/>
          <p:cNvPicPr/>
          <p:nvPr/>
        </p:nvPicPr>
        <p:blipFill>
          <a:blip r:embed="rId1"/>
          <a:stretch/>
        </p:blipFill>
        <p:spPr>
          <a:xfrm>
            <a:off x="584280" y="654120"/>
            <a:ext cx="3022560" cy="52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Our environment when we started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198720" indent="-19872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gemeyer acquisitions in the U.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040" indent="-24840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99–2000 Hagemeyer N.V. acquired 4 U.S. compan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meron &amp; Barkley Co. (CamBar) - ~55% of HNA s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040" indent="-24840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S/390 – in-house ERP – DI2.1 transl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3040" indent="-24840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-40% of business transactions E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len Safety Supply – ~35 % of HNA s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040" indent="-24840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/400 – in-house ERP – Harbinger TLE transl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3040" indent="-24840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-30% of business transactions E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i-state Electrical Supply – ~8% of HNA s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040" indent="-24840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IX – package ERP – minimal E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ied Electrical – ~2% of HNA s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040" indent="-24840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IX – modified package ERP - No E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872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Hagemeyer Global Solution ( HGS)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ERP – Movex ERP on AS/400 plat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 instances (3 OR 4) in Europe, Australia, and the U.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lt-on” solutions f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rehousing/log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-Commerce (we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siness intellig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ased migration by Operating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ajor events in the timeline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gemeyer acquisitions in the US, Canada, and Mexico formally combine into Hagemeyer North America, Inc. (HN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ill operating on separate ERP systems as semi-independent operating companies (OpC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NA OpCos sent associates to the Netherlands to participate on Hagemeyer Solution Teams (HST) developing and implementing the Hagemeyer Global Solution (HG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ajor events in the timeline (continued…)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196560" indent="-196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2 (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al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HST reported that the HGS for EDI will not satisfy HNA requirements without a lot more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NA decided to build HNA specific EDI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0">
              <a:lnSpc>
                <a:spcPct val="105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NA does more than twice as much EDI as the rest of Hagemeyer combined. We hoped we could “sell” our solution to the rest of Hagemeyer when we were do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ex is still the target 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6560" indent="-196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2 (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al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gemeyer put the entire HGS project “on hold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NA decided to migrate all US OpCos to one of our existing legacy systems (project Unite) – ERP target unkn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NA budget for HGS is re-allocated to project Un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ajor events in the timeline (continued…)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3 (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al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te target ERP selected – CamBar system with m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ased migration by customer segment and ge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3 (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al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 Unite postponed until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gration to common EDI solution continu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 target ERP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transactions using the new infrastructure go l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5000"/>
              </a:lnSpc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XML based transa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dget allocated to HGS/Unite project runs out 12/31/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ajor events in the timeline (continued…)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NA reorganizes EDI support resources into e-commerce Systems t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 migrated transactions go live July 1, 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te Vallen migration in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te CamBar migration in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te project may have eliminated the other systems by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Lee Edenfield</cp:lastModifiedBy>
  <dcterms:modified xsi:type="dcterms:W3CDTF">2004-07-16T14:54:07Z</dcterms:modified>
  <cp:revision>881</cp:revision>
  <dc:subject/>
  <dc:title>IBM Software Group</dc:title>
</cp:coreProperties>
</file>